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C99-D8E0-4239-8D75-2B4EB525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691-90ED-4CBE-8B78-6D614EC1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2ED-3D89-493F-9CFD-D6172DF8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F265-A5EB-42EA-8138-69CCFC17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3D1-A7E3-408F-908A-816A21C3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26A-F6D8-4EA2-A58C-08A6EB15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AFF-C2C9-473B-BA27-33B66713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B7D-653D-4129-B24F-5B730F9F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0B2-4B8D-434B-A6AA-6DC9205C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BE6-096D-4262-8942-E5F70C68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AF0-E7DD-47D0-BAD2-8FFEAEE7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3F2-D399-4DD6-96AF-CB64E554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1287-65BD-42F1-ADFE-16EFFC0DC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Goals for Toda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alyze and Evaluate Plan for Frontloading Activity, Get Feedback and Suggestions for Essential Qs and Culminating Performance Task 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necting to Our Experience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nship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arning is Situational:  “Any human activity—whether internal or external—is in fact allowed, encouraged, shaped and constrained by the particular situation in which it occurs” (Activity Theor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ow Would You Characterize Your Internship Situation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d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tor teac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Control” and “Can’t Control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aring Ou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23880" y="1397160"/>
          <a:ext cx="6096240" cy="23778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6" name="TextBox 2"/>
          <p:cNvSpPr/>
          <p:nvPr/>
        </p:nvSpPr>
        <p:spPr>
          <a:xfrm>
            <a:off x="1600200" y="762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ing Where We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aluating Frontloading Activity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 She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ain plan for frontloading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te Check Sheet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ainstorm ideas/possibilities for impro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afting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ing for the Gallery Walk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the Following on Your Pos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 Essential Question(s) at this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 of Culminating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/Specific Feedback You Are Looking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lery W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you consider the posters, use the following concepts to guide your feedbac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 Facets of Understa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mportance of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nowledge and Skills Necessary for Completing Tas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uthenti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red Understand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gration of Reading, Writing and Langu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idence of Understa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ceptual and Procedural Go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xt-to-Text, Text-to-Self, Text-to-World Conne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22:43:42Z</dcterms:created>
  <dc:creator>Phil Bear</dc:creator>
  <dc:description/>
  <dc:language>en-US</dc:language>
  <cp:lastModifiedBy>Phil Bear</cp:lastModifiedBy>
  <dcterms:modified xsi:type="dcterms:W3CDTF">2011-02-21T23:14:00Z</dcterms:modified>
  <cp:revision>4</cp:revision>
  <dc:subject/>
  <dc:title>Our Goals for Today: Analyze and Evaluate Plan for Frontloading Activity, Get Feedback and Suggestions for Essential Qs and Culminating Performance Task Ideas</dc:title>
</cp:coreProperties>
</file>